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3D29-954F-4A3F-8692-F9EF77B2DB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30E-2320-4624-9FC2-1523AFF54C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45B-E60F-45BD-8212-FFE4C12398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CBE9-97DB-4E42-B48E-18B12BB48B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12E-BCB6-4B04-9A55-2A52457497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EEC-FDCB-4A62-A30E-DA6906BEE3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586-5ECE-4DC0-A4A1-65BD7D4D9B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DEEF-C19A-4168-8810-94546249C7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3C1-753D-4032-B7BE-E8A372E400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477A-30A0-4103-AA91-B27B3E2244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D1E-1798-4701-AE15-7D92AE21FA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CE7-35BC-4670-A583-1A86DA8C21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272-C7B0-4A86-B10F-C175ADC4EA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42A-A52F-4638-99B0-3413563A9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American Involvement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orld War I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13" descr="HSUS_ch19_s3_WWITerritorialChanges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 flipH="1" rot="10800000">
            <a:off x="876240" y="1294920"/>
            <a:ext cx="7391520" cy="1752840"/>
          </a:xfrm>
          <a:prstGeom prst="upArrowCallout">
            <a:avLst>
              <a:gd name="adj1" fmla="val 48147"/>
              <a:gd name="adj2" fmla="val 44590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47920" y="14335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y the fall of 1918, the German front was collaps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14400" y="50292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 November 11, 1918, Germany surrender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the Allies in Compiegne, F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4"/>
          <p:cNvSpPr/>
          <p:nvPr/>
        </p:nvSpPr>
        <p:spPr>
          <a:xfrm flipH="1" rot="10800000">
            <a:off x="876240" y="3123720"/>
            <a:ext cx="7391520" cy="1752840"/>
          </a:xfrm>
          <a:prstGeom prst="upArrowCallout">
            <a:avLst>
              <a:gd name="adj1" fmla="val 48147"/>
              <a:gd name="adj2" fmla="val 44590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219320" y="32767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German and Austro-Hungarian soldiers deserted, mutinied, or refused to f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38080" y="1219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war took a huge toll on those invol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914400" y="2438280"/>
            <a:ext cx="41148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5 million Allied soldiers and 8 million Central Powers soldiers were killed in the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, 6.5 million civilians died during the confli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8" descr="HSUS_ch19_s3_WWICasualties"/>
          <p:cNvPicPr/>
          <p:nvPr/>
        </p:nvPicPr>
        <p:blipFill>
          <a:blip r:embed="rId1"/>
          <a:stretch/>
        </p:blipFill>
        <p:spPr>
          <a:xfrm>
            <a:off x="5094360" y="1828800"/>
            <a:ext cx="2906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3348000" y="1646280"/>
            <a:ext cx="549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early 1919, President Wilson traveled to Versailles, France for a peace con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352680" y="3429000"/>
            <a:ext cx="50292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met with European leaders and presented a plan for peace based on hi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ourteen Poi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vision of a postwar world was grounded in the idea of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eace without victory.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9" descr="HSUS_ch19_s3_FourteenPoints"/>
          <p:cNvPicPr/>
          <p:nvPr/>
        </p:nvPicPr>
        <p:blipFill>
          <a:blip r:embed="rId1"/>
          <a:stretch/>
        </p:blipFill>
        <p:spPr>
          <a:xfrm>
            <a:off x="525600" y="1236600"/>
            <a:ext cx="252252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6"/>
          <p:cNvSpPr/>
          <p:nvPr/>
        </p:nvSpPr>
        <p:spPr>
          <a:xfrm>
            <a:off x="533520" y="2438280"/>
            <a:ext cx="8076960" cy="32004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914400" y="1371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Fourteen Points made specific proposals to promote future peac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6"/>
          <p:cNvSpPr/>
          <p:nvPr/>
        </p:nvSpPr>
        <p:spPr>
          <a:xfrm>
            <a:off x="762120" y="2590920"/>
            <a:ext cx="40384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ctice open diploma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freedom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ourage free tra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 arms stockp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58"/>
          <p:cNvSpPr/>
          <p:nvPr/>
        </p:nvSpPr>
        <p:spPr>
          <a:xfrm>
            <a:off x="4572000" y="2590920"/>
            <a:ext cx="38862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ale back colonial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ourag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elf-determi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lish a League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9"/>
          <p:cNvSpPr/>
          <p:nvPr/>
        </p:nvSpPr>
        <p:spPr>
          <a:xfrm>
            <a:off x="4572000" y="2666880"/>
            <a:ext cx="0" cy="26672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 flipH="1" rot="10800000">
            <a:off x="800280" y="1371600"/>
            <a:ext cx="7657920" cy="1752480"/>
          </a:xfrm>
          <a:prstGeom prst="upArrowCallout">
            <a:avLst>
              <a:gd name="adj1" fmla="val 49893"/>
              <a:gd name="adj2" fmla="val 46206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155412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owever, Allied leaders at Versailles want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par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90720" y="3657600"/>
            <a:ext cx="75438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uropean leaders did not share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vision of peace without victo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wanted Germany to pay for war dam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also wanted to protect European colonialis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expand their countrie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rrito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2"/>
          <p:cNvSpPr/>
          <p:nvPr/>
        </p:nvSpPr>
        <p:spPr>
          <a:xfrm>
            <a:off x="9144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by one, Wils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Fourteen Points were rejected, leaving only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ague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143000" y="2590920"/>
            <a:ext cx="71629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ague of Nations was an organization where countries could come together to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solve disputes peacefu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roposal to create a League of Nations was added to the Treaty of Versail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2"/>
          <p:cNvSpPr/>
          <p:nvPr/>
        </p:nvSpPr>
        <p:spPr>
          <a:xfrm>
            <a:off x="9144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Treaty of Versailles redrew the map of Europe and broke up the Ottoman Empi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HSUS_ch19_s3_WWITerritorialChanges"/>
          <p:cNvPicPr/>
          <p:nvPr/>
        </p:nvPicPr>
        <p:blipFill>
          <a:blip r:embed="rId1"/>
          <a:stretch/>
        </p:blipFill>
        <p:spPr>
          <a:xfrm>
            <a:off x="457200" y="2048040"/>
            <a:ext cx="8236080" cy="42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838080" y="1219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 returned to face a hostile isolationist Senate, where two groups opposed the treaty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47920" y="4495680"/>
            <a:ext cx="6172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rreconcilable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ere isolationists who opposed the League of Nations and any treaty that entangled the United States in world politi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447920" y="22096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servationists,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enry Cabot Lodg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posed the treaty as written. They thought parts were vague and may lead the U.S. to war without consent of Congress. However, they were willing to negotiate chan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409680" y="1457280"/>
            <a:ext cx="830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 was unwilling to compromise on the treat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133720"/>
            <a:ext cx="4800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a speaking tour to promote the League of Nations in September 1919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lson became ill and suffered a stro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he lay near death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Senate voted, refusing to ratify the Treaty of Versail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85800" y="5486400"/>
            <a:ext cx="76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out full American support the League of Nations was unable to maintain peace among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3246315"/>
          <p:cNvPicPr/>
          <p:nvPr/>
        </p:nvPicPr>
        <p:blipFill>
          <a:blip r:embed="rId1"/>
          <a:stretch/>
        </p:blipFill>
        <p:spPr>
          <a:xfrm>
            <a:off x="5791320" y="2209680"/>
            <a:ext cx="24019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1981080"/>
            <a:ext cx="7010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derstand how the United States military contributed to the Allied victory in the w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Describe the aims of the Fourteen Poi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Analyze the decisions made at the Paris Peace Con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Explain why the United States Senate refused to ratify the treaty ending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6201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vo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roup of ships that traveled together  for protection against German U-boa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ladimir Leni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ca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st leader who took over Russia in March 191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J. Persh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eneral who led American forces in Euro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ourteen Poin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lan for lasting peace through international openness and coop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elf-determin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right of people to choose their own form of govern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0666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14400" y="1676520"/>
            <a:ext cx="77724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ague of Natio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ld organization to promote peaceful cooperation between coun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enry Cabot Lod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publican Senator who opposed ratification of the Treaty of Versail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paratio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yments for war damag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rreconcilable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nate isolationists who opposed any treaty that included a League of N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servationist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nators who opposed the Treaty of Versailles as written but were open to comprom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523880" y="1523880"/>
            <a:ext cx="7239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Americans affect the end of World War I and its peace settlem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600200" y="2895480"/>
            <a:ext cx="70102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United States entered World War I in the spring of 1917, the war was at a deadly, bloody stalemate along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merican entry into the war would play a key role in the Allied vict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609480" y="9907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United States entered the war in 1917, Germany increased U-boat attacks, hoping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n the war before American troops could make a dif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990720" y="5638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vo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ritish and American ships, protected by warship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vided better safety at s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10" descr="hsus_ch19_s3_WWIConvoy"/>
          <p:cNvPicPr/>
          <p:nvPr/>
        </p:nvPicPr>
        <p:blipFill>
          <a:blip r:embed="rId1"/>
          <a:stretch/>
        </p:blipFill>
        <p:spPr>
          <a:xfrm>
            <a:off x="1409760" y="2154240"/>
            <a:ext cx="6362640" cy="32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57200" y="1371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veral factors gave the Central Powers an advantage on lan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09480" y="2514600"/>
            <a:ext cx="800100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llies were exhaus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years of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ussia was torn apar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y revolutions at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sts gained control of Russia, and their leader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ladimir Leni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gned a treaty with Germany in 1918, ending Russian involvement in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losing of the Eastern Fro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llowed Germany to send more troops to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flipH="1" rot="5400000">
            <a:off x="980640" y="2171880"/>
            <a:ext cx="3200400" cy="4038480"/>
          </a:xfrm>
          <a:prstGeom prst="upArrowCallout">
            <a:avLst>
              <a:gd name="adj1" fmla="val 20937"/>
              <a:gd name="adj2" fmla="val 20519"/>
              <a:gd name="adj3" fmla="val 19974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"/>
          <p:cNvSpPr/>
          <p:nvPr/>
        </p:nvSpPr>
        <p:spPr>
          <a:xfrm flipH="1" rot="16200000">
            <a:off x="4989960" y="2247840"/>
            <a:ext cx="3200400" cy="3886200"/>
          </a:xfrm>
          <a:prstGeom prst="upArrowCallout">
            <a:avLst>
              <a:gd name="adj1" fmla="val 19937"/>
              <a:gd name="adj2" fmla="val 20019"/>
              <a:gd name="adj3" fmla="val 19653"/>
              <a:gd name="adj4" fmla="val 53315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1295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the spring of 1918, Germany began an all-out offensive on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66880" y="3003480"/>
            <a:ext cx="25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ttacks threatened to break through Allied defenses and op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th to Par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943600" y="2895480"/>
            <a:ext cx="2362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American soldiers began to arrive, and U.S. troops carried more of the burden of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ounded Rectangle 4"/>
          <p:cNvSpPr/>
          <p:nvPr/>
        </p:nvSpPr>
        <p:spPr>
          <a:xfrm>
            <a:off x="876240" y="1447920"/>
            <a:ext cx="739152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66680" y="156996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J. Persh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urned millions of untrained American men into soldier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d then led them in F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600200" y="3219480"/>
            <a:ext cx="63244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rival of American soldier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ave the Allies a military advant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ought brave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many batt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end of the war, 1.3 million Americans had served at the front.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ore than 50,000 of them d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1:13Z</dcterms:modified>
  <cp:revision>194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